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65D3-B1AB-4564-B281-87E93DE3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2D8C-3D87-4A7B-80EE-8D299F5C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8480-AA67-4698-8E37-B37A216B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D50B-F3DB-43A1-92EC-52801F7D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2087-E7EC-485F-AC15-6F9C8159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7D17-367B-45ED-9CD2-2A563EA6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65B9-3021-4237-9457-DE013853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BA1A-FC3F-4633-9FFD-CB3EAE26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4766-5500-499B-9D2A-598D3360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7E8E-CD92-4BB0-BC90-0DC59A23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5F62-6C63-4B59-9CC9-A2797F1F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8674-09B3-45F3-9C48-EB194376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9FB6-89B8-41D5-BF80-950052D9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D6E9-E714-453F-B658-601D9D63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9AFD-054F-4B4A-9D49-62257EA0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A671-71EA-4C7F-9127-46D14AA4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95CE-BA85-4C75-A750-1D17693E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0872-8D0F-4E29-9654-61599B60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76EA-131F-45C2-A1E2-42EA8DBA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6A3B-4DA5-4386-A6BD-93AEC039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7733-AC00-4BDE-A6A2-D92624D4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093FD-D496-4282-A957-40BB27D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47A2-E899-4434-8F37-B255205D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8373-FB56-48B5-826E-B798A145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0E7C-698F-4EA0-A1E1-56364B8DFF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A154-2EAB-48B9-A3FD-434CDFB49B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aexam.ru/" TargetMode="External"/><Relationship Id="rId2" Type="http://schemas.openxmlformats.org/officeDocument/2006/relationships/hyperlink" Target="http://www.wikipedia.ru/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Служебные части речи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убярова Л.А., студентка 4 курса 342гр., фил. фа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ыктывкар, 2010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Этапы проведения проект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Выбор тем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Поиск информац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Консультация преподавател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Самостоятельная работа учащихс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Защита проект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Информационные ресурс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0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naexam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www.gramota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www.pedia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wikipedia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правочник школьника. Русский язы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од ред. В.Славкина – М., 1999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812000" y="486900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5f519"/>
                </a:solidFill>
                <a:latin typeface="Garamond"/>
              </a:rPr>
              <a:t>Р.</a:t>
            </a:r>
            <a:r>
              <a:rPr b="1" lang="en-US" sz="5400" spc="-1" strike="noStrike">
                <a:solidFill>
                  <a:srgbClr val="f5f519"/>
                </a:solidFill>
                <a:latin typeface="Garamond"/>
              </a:rPr>
              <a:t>S</a:t>
            </a:r>
            <a:r>
              <a:rPr b="1" lang="ru-RU" sz="5400" spc="-1" strike="noStrike">
                <a:solidFill>
                  <a:srgbClr val="f5f519"/>
                </a:solidFill>
                <a:latin typeface="Garamond"/>
              </a:rPr>
              <a:t>.: Удачи и успеха в работе над проектами!!!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Основной вопрос нашего проект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Может ли главное существовать без служебного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Вопросы, ответы на которые мы будем искать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Какие служебные части речи есть в современном русском языке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Какие основные признаки характерны для служебных частей речи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.Какова основная роль союза как служебной части речи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.Зачем нужны частицы в современном русском языке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На какие разряды делятся частицы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5.Какова основная роль предлога как служебной части речи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Дидактические цели проект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оздать условия для самовыражения каждого учащегос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азвить творческий потенциал дет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формировать у учащихся чувство самостоятельности и ответственност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аучить учащихся формам групповой и фронтальной работы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Методические задач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Научить учащихся отличать служебные части речи от самостоятельных частей реч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Показать союз как служебную часть речи, его роль в предложении. Сформировать умение определять роль союз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Показать основные признаки частицы как служебной части реч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Показать роль предлога в современном русском язы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Мы будем изучать следующие служебные части реч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Частиц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Предло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Сою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Представление результатов исследования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фото-репорта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букле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веб-сай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сочинение или эс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презентации доклад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инсцениров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кроссвор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формулировка правила (в таблице, схем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творческая презентац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журн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стать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видеокли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Распределение по групп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26920" y="1413000"/>
          <a:ext cx="7859880" cy="4690800"/>
        </p:xfrm>
        <a:graphic>
          <a:graphicData uri="http://schemas.openxmlformats.org/drawingml/2006/table">
            <a:tbl>
              <a:tblPr/>
              <a:tblGrid>
                <a:gridCol w="1008360"/>
                <a:gridCol w="4232160"/>
                <a:gridCol w="2619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 изу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стники 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лужебные части реч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ица как служебная часть реч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лог как служебная часть реч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юз как служебная часть реч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Продолжительность проекта</a:t>
            </a: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оект рассчитан на две недел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сего 5 ча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сего часов на самостоятельную работ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10 ча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ема: Служебные части речи (1 ч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ема: Частица как служебная часть речи (1 ч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ема: Предлог как служебная часть речи (1 ч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ема: Союз как служебная часть речи (1 ч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6:12:51Z</dcterms:created>
  <dc:creator>SamLab.ws</dc:creator>
  <dc:description/>
  <dc:language>en-US</dc:language>
  <cp:lastModifiedBy>SamLab.ws</cp:lastModifiedBy>
  <dcterms:modified xsi:type="dcterms:W3CDTF">2010-04-21T10:16:34Z</dcterms:modified>
  <cp:revision>7</cp:revision>
  <dc:subject/>
  <dc:title>Служебные части речи.</dc:title>
</cp:coreProperties>
</file>